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jpeg" ContentType="image/jpeg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  <p:sldId id="266" r:id="rId29"/>
    <p:sldId id="267" r:id="rId30"/>
    <p:sldId id="268" r:id="rId31"/>
    <p:sldId id="269" r:id="rId32"/>
  </p:sldIdLst>
  <p:sldSz cx="9144000" cy="6858000"/>
  <p:notesSz cx="6858000" cy="99790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slide" Target="slides/slide11.xml"/><Relationship Id="rId30" Type="http://schemas.openxmlformats.org/officeDocument/2006/relationships/slide" Target="slides/slide12.xml"/><Relationship Id="rId31" Type="http://schemas.openxmlformats.org/officeDocument/2006/relationships/slide" Target="slides/slide13.xml"/><Relationship Id="rId32" Type="http://schemas.openxmlformats.org/officeDocument/2006/relationships/slide" Target="slides/slide14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3A2B0-622D-44A5-98B8-7C3E32AE0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62C85-F7F1-4336-8C76-8900BE999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5521F2-24F9-44CC-B1C7-0F8A7D4C2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72DD4D-1DE1-432F-9AE3-7CA4CF6B4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25EDE8-74F1-4231-A43F-98D763C44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A030C2-04F7-48D3-813F-FD761BB1B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B1514B-9F76-4DC8-B68E-75C4D7319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2DC96E-EF3D-4E90-A86F-B5F5E7340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CAA18C-9866-47AF-A43F-E092FA071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21709F-0AC9-4B5F-A5B5-8F1E91B14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8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9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F856F2-26B9-4952-A9EF-DA721B814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2A11B2-9156-4D17-9D26-12AF51B51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49586-0C8F-4657-8BED-51BE7B304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B3345F-9087-41CF-8E73-E884CB8CD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5C76BA-5134-4DD1-9871-CB3351CDC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FA722A-9677-4980-B00E-EA8667F6A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23DD09-BAF2-4CD1-866D-2CD63D37F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B7D70D-A2C7-47E6-9027-5A635ED5F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71D80A-41CF-4295-8874-E40F03DA4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CB3660-76FC-4F92-876F-D4856E6D0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5B48BC-1D71-4B21-873F-8AC81B462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9234D3-3720-46E2-88BC-E1973DD64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DD9254-0BCA-4238-B31F-A5F9B4202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C54FF-694A-4BBB-B66E-9D4776987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7E695B-8B63-4BE7-9335-C5EDBB0BD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4D8FBA-0ABA-48BA-8E58-D17509F70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7F3D5F-AE4F-4071-A0B6-F11A73F10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3A4497-3163-4B80-AD81-DE500B2E2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1321C7-193E-409C-8288-60EA9DDB8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4AF6EF-13CF-4517-B5DC-A634C01F5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25A687-3418-434F-9647-79502811D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049837-3E36-4441-AC88-D738E0662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746384-7845-43D3-80EC-E65DC4F1C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9A171A-69AE-4F59-9FD9-FDF71EA76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E74BE-286A-4B42-B7B4-A4B63412A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32B457-BC38-48AC-8B73-18ACF5E61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4C2538-E28F-4BD7-A676-4CFB2344A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EE5983-5C81-47C0-A61F-7E6708999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8DE408-7B8E-4A31-B097-9C52925B9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D81655-FCC4-4077-80A1-0CFB98D63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94D9B1-CAC9-4EBD-9078-1FBD4D98D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12CC42-2C2F-49CC-B5E4-BD6E2F37F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018246-9E3A-46B1-B715-7A3FC62E3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51450F-540C-460C-B079-2720BB379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4C3903-C067-4BF7-ADCD-CB8986031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AE417-CBC7-401E-BD9D-6827F466B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11F139-FB8C-4C90-BB7F-4D4193B8C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9EAFF6-07EE-4F69-A60E-9D270AD55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FF76E6-E9D0-43CD-928A-ADA7A935C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A8CBF0-20BE-4B33-B2E6-83D29B41E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A75FA8-3808-4315-9BB6-656A30AF8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3B5917D-5784-4E66-907C-1666BDE7A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3263670-BA0A-4106-88E1-73DF4C4FE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F15D8D1-8ADA-4CEF-BDB3-7C820C5C4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2FFA3CE-7555-4E26-AE63-AB4329D1C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A6C8079-6FC7-47C5-8B55-555E0D1BD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9EB72-133B-43E3-9758-6618B52B2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2861317-CF8E-4A3F-B2B3-DF9BD8C98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63D7D20-7A12-43D4-9F07-57D8A089B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90950B0-B17F-496E-B751-CD659FA03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1D9E2FE-86EC-4130-8C72-440C1441B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674B058-CC5F-48F5-A2BE-7743AE2C7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FE50A8B-B036-492A-BC2F-5F0DBF3E9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FF9971A-79D6-4C52-8DB6-B8DC19F1A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3208414-B00D-4569-94F7-8E9B09DF3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A4B26C6-046A-4FBA-9B15-5FD9164D9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F19AB53-5ABF-4A0F-94D9-EAC74F023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9C06B-A26F-4ABB-8D80-F0F429204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7A6DB41-B44B-415E-A59B-A19F4D96C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6BBC092-365B-44A9-B653-75561AB50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ED918A9-B423-42C7-AD6A-4A8C49817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DD1780E-0F93-4AD5-9A57-F4A5AFDB9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689EA2D-7680-4936-92AA-54A4883BD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5B945D0-18B8-4C75-8F40-40B62E9EE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0A28CDB-F493-4338-B20A-6A6C4F4F6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EF1E971-11F4-4DC9-8BA1-38BAF5F4F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FAF4560-8223-4ED9-8911-900A519C2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9F96DB3-E35B-45B9-8ABD-57DFC3992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41D16-0F3F-4584-9A57-C5F770DFC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B98DC02-C38D-4449-B0E4-2B09DF35B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7B2C51A-E778-46E0-8BD2-C71BD4CA6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6D1BBDF-354D-46D4-981F-DC573E2FF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EC55B4E-82B5-402D-8038-7A0C62099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5D168EF-518E-43FA-9237-B5F4F794B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4CB110D-CD63-4446-98EC-9C4D3F54F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7759371-99C1-4E5A-A20A-36546CF69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860908D-74D9-4245-8D41-B9909A388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13EBD43-EED1-4F55-8B54-6B8D2B2E3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0AAA918-C0E9-4EF8-B670-4E3D6550B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61D89-190E-4A19-BCAC-A3C156F1F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27E815A-EF59-42F0-B77B-69BC38BC7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090A1F7-D11F-4A96-B1CE-4414AD54F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6A25260-8305-40C7-B538-01CD47BE2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3C9BD74-DF37-4658-BEAC-3B057827D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37715CE-CBB4-40EA-8E79-388C67D24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AB2AAB5-3AA1-4CA9-930F-73783BFA2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1C95FB4-A5D3-4A7F-88CF-C5FD34141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1AD5B64-BDF0-41D6-B3C5-DA9A16440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EA9F075-5323-4801-AEF8-4E6595061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A1E33BE-EE2D-4203-A497-AAB191BC8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842BA-ABE5-4656-85C4-BEE01DDEC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5B9073B-3340-4A0D-9FD3-1F32C85CE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85DF60F-5288-418A-8AD7-F0F57563D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703E03F-9172-4522-BE2E-1EB24506B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0F58DF2-96C1-4F52-A744-784CABC02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9F7F93F-6CDE-4922-95D1-25CE41D14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062BC24-909E-4E29-9AE4-89E4C5422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FE1DF40-A2EF-4B00-BFA4-1376DBF24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A087F2F-AB25-4C2C-A57C-BAFF0D110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8AB9A1E-148A-4E8C-AF39-21EA25B84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7FF6137-FE30-4D78-A6D9-2B1B23924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56E84-8CF8-4BDA-8041-E0781845D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2CE2F-DC5F-4942-8FEB-76E8C46A6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152671E-5182-4B7C-97AE-F441678C4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B55686D-9106-433F-AC30-1959B1F31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EF8B40A-2C4C-41A6-93FC-DFC37DE44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8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4EAA308-B97F-4E30-8E12-3D728D598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3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4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5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22E98AF-8070-4FA6-A740-54A5A65FE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8BC92-C151-4D36-BDEF-3E2EA0EB6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68419-9224-4FC7-82D9-3DDC149C8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944A5-5EF8-4B5E-8454-F13AA484A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A5542-418B-4D4D-9178-518382158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BB16B6-19D4-4B8A-B155-313FF0805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3C061E-FBD5-402A-BE10-78DFDD9DA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D51CBC-901F-4026-AE6D-CCB109C71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EF8029-CAC2-48EB-BBDD-24E4CC7E5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9E2DB2-FC4D-4EFD-87D4-685A2D073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7655D-3530-40F4-A326-15F85CEDD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15C722-CAF1-482D-85EC-1026F7A67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527E7F-08A1-4B99-B9C7-B5388B780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8E93B2-C3E9-41B1-9D92-D53A706E6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5F90E3-8BB2-4366-B2D2-76868B086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EC1794-246A-45A5-A25D-B8AA70E5A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84086D-6660-4E94-9EC1-5FB59E5FB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E38CBA-CAA3-4BB0-8165-EE348B121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572EEE-D421-4474-835A-7DF250A81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9ABB06-15C8-4C77-B2A0-2A74F4B6C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B3EFB1-6622-41E8-8B8F-78AC3E336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410F1-E572-4721-AC7C-919EBF0A6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EDEA86-BDD1-4CC6-9700-1D980C921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240992-9955-4FDC-9F94-508F34683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8864A2-1FAA-433D-A0FF-D7294FC6B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CEE4A9-E19D-4E41-9B9B-D0E1A5FC5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ACF9A5-6C9F-47F8-9039-4DFCF8938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76B9F8-8756-4131-BFD2-F22B6FAF7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431071-662B-4432-8ADD-23ADE2C7B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8FABC8-C1E7-4132-A433-451F66CAB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F42E7B-ADF7-48C7-B800-9E77B592A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042087-D2DD-4FEB-AB8B-CA13BF09D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1EFB1-2BF6-401E-9A7D-14B0EEE61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E639D3-FD88-42DE-98CA-CC6E03747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EE1482-7FDE-40C3-863C-53EB2E41E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B87968-F86C-43CA-B9F5-F361E279A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471156-3BFE-438F-9A48-E6AF902F8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B02D30-385C-4F60-9455-C02E8B018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4A2940-45D4-4C9F-956C-BB2E6F2D6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7C440D-4A49-4CE6-8983-930CE021D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39535B-A83F-4A53-84DC-861A6522C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904E29-DFAE-45CD-9A5D-A42C6C544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D0CF9B-D7F9-4D4D-8819-A0857457D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B6C32-7F36-4EF8-929C-5E4AAB510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C2C005-1407-44FD-9A1E-5DC269743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E2E628-B857-4C92-AF61-530565119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A9A070-FF4F-4651-8042-19590F779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98F771-7239-4928-A195-9639005BC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7EB6A2-3216-4397-B032-34CFD5E75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4AE462-4B65-4D6E-9789-24CDBE41D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8B3F66-5EA8-4B9B-99A6-4D894E7F7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316224-F717-43E7-A175-673772B2A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C503D2-BD89-4A5A-A17E-7EC612D5C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D4C025-4579-4BD5-BBC7-1359EBFC9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33476-15AE-4D4D-99A7-34571AAE9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155BFE-5640-431F-915E-F8E597D0E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43C353-342F-45E2-B257-9E7CEE435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2856CB-01CF-4409-AE49-B8C6C4340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BA0157-791A-4067-B962-27B49A718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7E8BEB-FFDF-455F-B679-6E95F7E5E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F56866-7D4A-49F1-B2F7-9D6461EFC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B0CAD8-02E3-469F-8D84-7BB1CA0FC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9723CB-C11B-4216-A8E0-DD1549D4D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DA5C3F-06A1-49DB-9958-B025D5827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EA612B-D793-45AE-9B1B-DDE5AE809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AF896-7E2C-48E3-94E5-7F37141B8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4CF422-2A80-4FB8-B4A0-FE0E54CF6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70519B-AFD4-46FF-99C1-0587D933C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102664-4B78-4EF5-991B-DBF26E32C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44D369-5C0F-43D0-B9A0-D1F976DC3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FE882C-96E9-4CC5-9A39-4E1B9FA5D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B9A0EB-8E0D-4783-9141-2B9152EAE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BD36E4-27E2-4BCC-A193-78F30382B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C4AB07-66D4-47A1-98B8-0FEFE2EAC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02495E-B668-4244-B216-E7530B587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8F0980-99CF-4FC6-A5C9-23804C0C3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F11BB-9C1B-4414-907D-749AA2163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6E13F8-AADD-4935-BFD8-72A42675B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9C67DA-8B57-401D-A8A7-DC05BCF29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CE624D-AC10-4F8C-B900-1462303E2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E2D8AD-EBB7-461B-A087-B92F88CFC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9BAE63-9B1F-4AC0-8B2C-4B8FD912E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833781-CE90-4531-8945-BA30F3E44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9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0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AA880E-EE88-40BE-BEE8-BC6014B52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14DDF8-D985-4C8F-B6D6-E3F0310EA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F6C3AB-A85D-40FB-9745-04DC600CD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958145-F0CC-4F59-9BAF-53183C13F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4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EE330-1E6F-43FD-A34B-287C24EFE4B1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0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21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3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634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6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28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29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30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B9E8E-9853-44DB-BBAC-BFE037B5A2A6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9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70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 type="dt" idx="31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 type="ftr" idx="32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 type="sldNum" idx="33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9DE0C-D58D-4B7A-873E-F327CE6CAEAE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75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77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TextBox 34"/>
          <p:cNvSpPr/>
          <p:nvPr/>
        </p:nvSpPr>
        <p:spPr>
          <a:xfrm>
            <a:off x="1808280" y="6476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TextBox 62"/>
          <p:cNvSpPr/>
          <p:nvPr/>
        </p:nvSpPr>
        <p:spPr>
          <a:xfrm>
            <a:off x="8169120" y="2905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 type="dt" idx="34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 type="ftr" idx="35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5"/>
          <p:cNvSpPr>
            <a:spLocks noGrp="1"/>
          </p:cNvSpPr>
          <p:nvPr>
            <p:ph type="sldNum" idx="36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F1B6C-A001-4209-B2A7-5D27DA5EA3F5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83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84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 type="dt" idx="37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 type="ftr" idx="38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5"/>
          <p:cNvSpPr>
            <a:spLocks noGrp="1"/>
          </p:cNvSpPr>
          <p:nvPr>
            <p:ph type="sldNum" idx="39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F2DD6-E970-429B-BDFB-C535FF93653F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89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91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TextBox 34"/>
          <p:cNvSpPr/>
          <p:nvPr/>
        </p:nvSpPr>
        <p:spPr>
          <a:xfrm>
            <a:off x="1808280" y="6476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TextBox 62"/>
          <p:cNvSpPr/>
          <p:nvPr/>
        </p:nvSpPr>
        <p:spPr>
          <a:xfrm>
            <a:off x="8169120" y="2905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 type="dt" idx="40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 type="ftr" idx="41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5"/>
          <p:cNvSpPr>
            <a:spLocks noGrp="1"/>
          </p:cNvSpPr>
          <p:nvPr>
            <p:ph type="sldNum" idx="42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C3BF7-9DF9-4150-A218-9C5B58D58140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97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98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 type="dt" idx="43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 type="ftr" idx="44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5"/>
          <p:cNvSpPr>
            <a:spLocks noGrp="1"/>
          </p:cNvSpPr>
          <p:nvPr>
            <p:ph type="sldNum" idx="45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B6615-11A5-46AE-A171-BFF7F5EF4733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03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05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 type="dt" idx="46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 type="ftr" idx="47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 type="sldNum" idx="48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C91C9-8A08-43BC-8BD6-C6666E576E56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7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108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0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121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3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 type="dt" idx="49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PlaceHolder 4"/>
          <p:cNvSpPr>
            <a:spLocks noGrp="1"/>
          </p:cNvSpPr>
          <p:nvPr>
            <p:ph type="ftr" idx="50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5"/>
          <p:cNvSpPr>
            <a:spLocks noGrp="1"/>
          </p:cNvSpPr>
          <p:nvPr>
            <p:ph type="sldNum" idx="51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EF721-C565-4B41-B5B4-B394E426E578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8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Freeform 8"/>
          <p:cNvSpPr/>
          <p:nvPr/>
        </p:nvSpPr>
        <p:spPr>
          <a:xfrm>
            <a:off x="-31680" y="4321080"/>
            <a:ext cx="1395360" cy="781200"/>
          </a:xfrm>
          <a:custGeom>
            <a:avLst/>
            <a:gdLst/>
            <a:ahLst/>
            <a:rect l="l" t="t" r="r" b="b"/>
            <a:pathLst>
              <a:path w="8042" h="10000">
                <a:moveTo>
                  <a:pt x="5799" y="10000"/>
                </a:moveTo>
                <a:cubicBezTo>
                  <a:pt x="5880" y="10000"/>
                  <a:pt x="5934" y="9940"/>
                  <a:pt x="5961" y="9880"/>
                </a:cubicBezTo>
                <a:cubicBezTo>
                  <a:pt x="5961" y="9820"/>
                  <a:pt x="5988" y="9820"/>
                  <a:pt x="5988" y="9820"/>
                </a:cubicBezTo>
                <a:lnTo>
                  <a:pt x="8042" y="5260"/>
                </a:lnTo>
                <a:cubicBezTo>
                  <a:pt x="8096" y="5140"/>
                  <a:pt x="8096" y="4901"/>
                  <a:pt x="8042" y="4721"/>
                </a:cubicBezTo>
                <a:lnTo>
                  <a:pt x="5988" y="221"/>
                </a:lnTo>
                <a:cubicBezTo>
                  <a:pt x="5988" y="160"/>
                  <a:pt x="5961" y="160"/>
                  <a:pt x="5961" y="160"/>
                </a:cubicBezTo>
                <a:cubicBezTo>
                  <a:pt x="5934" y="101"/>
                  <a:pt x="5880" y="41"/>
                  <a:pt x="5799" y="41"/>
                </a:cubicBezTo>
                <a:lnTo>
                  <a:pt x="18" y="0"/>
                </a:lnTo>
                <a:cubicBezTo>
                  <a:pt x="12" y="3330"/>
                  <a:pt x="6" y="6661"/>
                  <a:pt x="0" y="9991"/>
                </a:cubicBezTo>
                <a:lnTo>
                  <a:pt x="5799" y="10000"/>
                </a:ln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4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5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6"/>
          </p:nvPr>
        </p:nvSpPr>
        <p:spPr>
          <a:xfrm>
            <a:off x="423360" y="4529160"/>
            <a:ext cx="584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27646-B93A-4EF4-B312-ADA5C9A1BA6F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38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51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7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8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9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DD4AE-CD5F-45F7-A999-1EFB2B1D3106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207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220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dt" idx="10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ftr" idx="11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sldNum" idx="12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D15EC-6001-4AA2-B1BE-26FCE5DDFA2C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5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276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8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289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1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13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14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15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8F1E7-6E4C-44FF-962E-5572B90EBA74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4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345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7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358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0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16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17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18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74F3E-1FCC-4F05-8E34-9F000205BF12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3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414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6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427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9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dt" idx="19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ftr" idx="20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sldNum" idx="21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BDD2A-C7C8-4D74-A161-775A3E33BB8A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2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483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5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496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8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 type="dt" idx="22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 type="ftr" idx="23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 type="sldNum" idx="24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3FA23-28D3-41A2-9713-2BFACDDB1EFD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1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552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4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565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7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 type="dt" idx="25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 type="ftr" idx="26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 type="sldNum" idx="27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DCD31-47F9-4868-B4EC-33FBE05857E6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Прямоугольник 1"/>
          <p:cNvSpPr/>
          <p:nvPr/>
        </p:nvSpPr>
        <p:spPr>
          <a:xfrm>
            <a:off x="1911600" y="2197080"/>
            <a:ext cx="5898600" cy="362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Мы делили апельсин»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 прикладная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фликтология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уроках биолог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вина Татьяна Владимировна, учитель биологии МАОУ «СОШ № 46 г. Челябинска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TextBox 2"/>
          <p:cNvSpPr/>
          <p:nvPr/>
        </p:nvSpPr>
        <p:spPr>
          <a:xfrm>
            <a:off x="1071720" y="843120"/>
            <a:ext cx="77356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0" name="Рисунок 1" descr=""/>
          <p:cNvPicPr/>
          <p:nvPr/>
        </p:nvPicPr>
        <p:blipFill>
          <a:blip r:embed="rId1"/>
          <a:stretch/>
        </p:blipFill>
        <p:spPr>
          <a:xfrm>
            <a:off x="1676520" y="1012680"/>
            <a:ext cx="7180200" cy="4695840"/>
          </a:xfrm>
          <a:prstGeom prst="rect">
            <a:avLst/>
          </a:prstGeom>
          <a:ln w="0">
            <a:noFill/>
          </a:ln>
        </p:spPr>
      </p:pic>
      <p:sp>
        <p:nvSpPr>
          <p:cNvPr id="1191" name="Прямоугольник 2"/>
          <p:cNvSpPr/>
          <p:nvPr/>
        </p:nvSpPr>
        <p:spPr>
          <a:xfrm>
            <a:off x="2262240" y="426960"/>
            <a:ext cx="602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а конфликта, конфликтной ситу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Мы делили апельсин» (способы поведения в конфликте при стратегии сотрудничества</a:t>
            </a:r>
            <a:r>
              <a:rPr b="0" lang="ru-RU" sz="25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)</a:t>
            </a:r>
            <a:endParaRPr b="0" lang="en-US" sz="25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3" name=""/>
          <p:cNvSpPr txBox="1"/>
          <p:nvPr/>
        </p:nvSpPr>
        <p:spPr>
          <a:xfrm>
            <a:off x="1164960" y="1904760"/>
            <a:ext cx="659268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пломатия - вы стараетесь рассудить, кому апельсин нужнее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ромисс - чистите апельсин и делите поровну. 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ля судьбы. Тянете жребий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структивный поиск - узнать, кому и зачем нужен апельсин ( кого-то мучает жажда-сок, кто-то хочет есть - мякоть, кому –то кожура для цукатов, а третьему - косточки для дерева)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TextBox 1"/>
          <p:cNvSpPr/>
          <p:nvPr/>
        </p:nvSpPr>
        <p:spPr>
          <a:xfrm>
            <a:off x="1133640" y="1181160"/>
            <a:ext cx="801036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делить  суть  проблем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Посмотреть  на  проблему  со  сторон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Поставить себя  на  место  другого участника  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фликта  -  что   бы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Вы сделали  в   данной ситуации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Найти  конструктивное   решение  проблемы, 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оторое  будет  оптимальным  для Вас и для 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гог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TextBox 2"/>
          <p:cNvSpPr/>
          <p:nvPr/>
        </p:nvSpPr>
        <p:spPr>
          <a:xfrm>
            <a:off x="1146240" y="531720"/>
            <a:ext cx="768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горитм действий в конфликтной ситу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TextBox 1"/>
          <p:cNvSpPr/>
          <p:nvPr/>
        </p:nvSpPr>
        <p:spPr>
          <a:xfrm>
            <a:off x="1133640" y="1181160"/>
            <a:ext cx="801036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фликты должны решать взрослые люди. Взрослые – это в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 Ребёнок не должен «справляться» со взрослыми. Это или сломает ребенка или уничтожит авторитет взрослого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Помощь – это нормально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Психика пластична. Завтра будет новый день.  Надо дать шанс плохому «стереться»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TextBox 2"/>
          <p:cNvSpPr/>
          <p:nvPr/>
        </p:nvSpPr>
        <p:spPr>
          <a:xfrm>
            <a:off x="1146240" y="531720"/>
            <a:ext cx="768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мятка педагога в конфликтной ситу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8" name="Picture 2" descr="https://sakhalife.ru/wp-content/uploads/2022/10/f59q71juxp3go3spdsq7etnwxhfmzuue.jpg"/>
          <p:cNvPicPr/>
          <p:nvPr/>
        </p:nvPicPr>
        <p:blipFill>
          <a:blip r:embed="rId1"/>
          <a:stretch/>
        </p:blipFill>
        <p:spPr>
          <a:xfrm>
            <a:off x="420840" y="1411200"/>
            <a:ext cx="8467560" cy="4533840"/>
          </a:xfrm>
          <a:prstGeom prst="rect">
            <a:avLst/>
          </a:prstGeom>
          <a:ln w="0">
            <a:noFill/>
          </a:ln>
        </p:spPr>
      </p:pic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965160" y="247320"/>
            <a:ext cx="777888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262626"/>
                </a:solidFill>
                <a:latin typeface="Century Gothic"/>
              </a:rPr>
              <a:t>«</a:t>
            </a:r>
            <a:r>
              <a:rPr b="0" lang="ru-RU" sz="2000" spc="-1" strike="noStrike">
                <a:solidFill>
                  <a:srgbClr val="262626"/>
                </a:solidFill>
                <a:latin typeface="Century Gothic"/>
              </a:rPr>
              <a:t>У</a:t>
            </a:r>
            <a:r>
              <a:rPr b="1" lang="ru-RU" sz="2000" spc="-1" strike="noStrike">
                <a:solidFill>
                  <a:srgbClr val="262626"/>
                </a:solidFill>
                <a:latin typeface="Century Gothic"/>
              </a:rPr>
              <a:t>мный человек найдёт выход из любого положения. Мудрый в этом положении не окажется».</a:t>
            </a:r>
            <a:br>
              <a:rPr sz="2000"/>
            </a:br>
            <a:r>
              <a:rPr b="1" lang="ru-RU" sz="2000" spc="-1" strike="noStrike">
                <a:solidFill>
                  <a:srgbClr val="262626"/>
                </a:solidFill>
                <a:latin typeface="Century Gothic"/>
              </a:rPr>
              <a:t>Ю.Рихтер</a:t>
            </a:r>
            <a:br>
              <a:rPr sz="2000"/>
            </a:br>
            <a:endParaRPr b="0" lang="en-US" sz="2000" spc="-1" strike="noStrike">
              <a:solidFill>
                <a:srgbClr val="26262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TextBox 1"/>
          <p:cNvSpPr/>
          <p:nvPr/>
        </p:nvSpPr>
        <p:spPr>
          <a:xfrm>
            <a:off x="1979640" y="982800"/>
            <a:ext cx="6427800" cy="472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фликт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 от лат.  с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flictus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столкновение)  - столкновение противоположно направленных целей, интересов, позиций, мнений или взглядов оппонентов или субъектов взаимодействи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сихологический словарь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.А. Карпенко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Прямоугольник 1"/>
          <p:cNvSpPr/>
          <p:nvPr/>
        </p:nvSpPr>
        <p:spPr>
          <a:xfrm>
            <a:off x="1581120" y="222120"/>
            <a:ext cx="7191360" cy="521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очником возникновения конфликта являются противореч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целей, интересов, позици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мнений, взглядов, убеждени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личностных качест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межличностных отношени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знаний, умений, способносте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функций управл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редств, методов деятельност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мотивов, потребностей, ценностных ориентаци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онимания: интерпретации информаци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ценок и самооцен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TextBox 1"/>
          <p:cNvSpPr/>
          <p:nvPr/>
        </p:nvSpPr>
        <p:spPr>
          <a:xfrm>
            <a:off x="1309680" y="941400"/>
            <a:ext cx="3549600" cy="44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фликтная ситуация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это объективная основа конфликта, фиксирующая возникновение реального противоречия в интересах и потребностях сторон. По сути дела, это ещё не сам конфликт, так как существующее объективное противоречие может определённое время не осознаваться участниками взаимодейств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TextBox 2"/>
          <p:cNvSpPr/>
          <p:nvPr/>
        </p:nvSpPr>
        <p:spPr>
          <a:xfrm>
            <a:off x="5199120" y="2743200"/>
            <a:ext cx="3535200" cy="28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цидент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это ситуация взаимодействия, позволяющая осознать его участникам наличия объективного противоречия в их интересах и целях. То есть, инцидент – это осознание конфликтной ситуа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Прямоугольник 1"/>
          <p:cNvSpPr/>
          <p:nvPr/>
        </p:nvSpPr>
        <p:spPr>
          <a:xfrm>
            <a:off x="1581120" y="222120"/>
            <a:ext cx="7191360" cy="55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чины конфликто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ученик – учитель»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тсутствие единства в требованиях учителе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Чрезмерное количество требований к ребёнк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епостоянство требовани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есоблюдение требований самим учителе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Ученик считает себя несправедливо недооцененны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Учитель не может примириться с особенностями ученик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Личные качества учителя или ученика (раздражительность, грубость, беспомощность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3" name="Содержимое 6" descr=""/>
          <p:cNvPicPr/>
          <p:nvPr/>
        </p:nvPicPr>
        <p:blipFill>
          <a:blip r:embed="rId1"/>
          <a:stretch/>
        </p:blipFill>
        <p:spPr>
          <a:xfrm>
            <a:off x="378000" y="1292400"/>
            <a:ext cx="8400960" cy="4322520"/>
          </a:xfrm>
          <a:prstGeom prst="rect">
            <a:avLst/>
          </a:prstGeom>
          <a:ln w="0">
            <a:noFill/>
          </a:ln>
        </p:spPr>
      </p:pic>
      <p:sp>
        <p:nvSpPr>
          <p:cNvPr id="1184" name="Прямоугольник 3"/>
          <p:cNvSpPr/>
          <p:nvPr/>
        </p:nvSpPr>
        <p:spPr>
          <a:xfrm>
            <a:off x="1870560" y="279360"/>
            <a:ext cx="5949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a53010"/>
                </a:solidFill>
                <a:latin typeface="Calibri"/>
                <a:ea typeface="Arial"/>
              </a:rPr>
              <a:t>Динамика конфликт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5" name="Содержимое 7" descr="20111104_10_57_28366.jpg"/>
          <p:cNvPicPr/>
          <p:nvPr/>
        </p:nvPicPr>
        <p:blipFill>
          <a:blip r:embed="rId1"/>
          <a:stretch/>
        </p:blipFill>
        <p:spPr>
          <a:xfrm>
            <a:off x="4843440" y="1814400"/>
            <a:ext cx="3963960" cy="3963960"/>
          </a:xfrm>
          <a:prstGeom prst="rect">
            <a:avLst/>
          </a:prstGeom>
          <a:ln w="0">
            <a:noFill/>
          </a:ln>
        </p:spPr>
      </p:pic>
      <p:sp>
        <p:nvSpPr>
          <p:cNvPr id="1186" name="Прямоугольник 2"/>
          <p:cNvSpPr/>
          <p:nvPr/>
        </p:nvSpPr>
        <p:spPr>
          <a:xfrm>
            <a:off x="2453400" y="677880"/>
            <a:ext cx="4781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Яблоко и червячок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Прямоугольник 1"/>
          <p:cNvSpPr/>
          <p:nvPr/>
        </p:nvSpPr>
        <p:spPr>
          <a:xfrm>
            <a:off x="1384200" y="617400"/>
            <a:ext cx="7612200" cy="46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имеры ответо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 algn="just">
              <a:lnSpc>
                <a:spcPct val="115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нкуренция: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Calibri"/>
              </a:rPr>
              <a:t> «Сейчас как упаду на тебя и раздавлю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 algn="just">
              <a:lnSpc>
                <a:spcPct val="115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Calibri"/>
              </a:rPr>
              <a:t>Избегание: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Calibri"/>
              </a:rPr>
              <a:t>«Вон, посмотри, какая симпатичная груша!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 algn="just">
              <a:lnSpc>
                <a:spcPct val="115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мпромисс: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Calibri"/>
              </a:rPr>
              <a:t> «Ну, хорошо, откуси половинку, остальное оставь моим любимым  хозяевам!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 algn="just">
              <a:lnSpc>
                <a:spcPct val="115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испособление: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Calibri"/>
              </a:rPr>
              <a:t>«Такая, видно, у меня доля тяжкая!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 algn="just">
              <a:lnSpc>
                <a:spcPct val="115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Calibri"/>
              </a:rPr>
              <a:t>Сотрудничество: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Calibri"/>
              </a:rPr>
              <a:t>«Посмотри, на земле есть уже упавшие яблоки, ты их ешь, они тоже вкусные!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TextBox 2"/>
          <p:cNvSpPr/>
          <p:nvPr/>
        </p:nvSpPr>
        <p:spPr>
          <a:xfrm>
            <a:off x="1214280" y="1911240"/>
            <a:ext cx="76708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бегание (не хочу участвовать в этом, не могу повлиять на ситуацию и т.п.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способление (подстроиться под партнёра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перничество («выиграть», «победить» любой ценой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ромисс (частично удовлетворяем мои интересы, частично – интересы партнёра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трудничество (найти решение, удовлетворяющее всех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TextBox 3"/>
          <p:cNvSpPr/>
          <p:nvPr/>
        </p:nvSpPr>
        <p:spPr>
          <a:xfrm>
            <a:off x="1324080" y="558720"/>
            <a:ext cx="745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атегии поведения в конфликт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22T12:08:41Z</dcterms:created>
  <dc:creator>Dmytro</dc:creator>
  <dc:description/>
  <dc:language>en-US</dc:language>
  <cp:lastModifiedBy>OG</cp:lastModifiedBy>
  <cp:lastPrinted>2024-04-22T10:40:26Z</cp:lastPrinted>
  <dcterms:modified xsi:type="dcterms:W3CDTF">2024-04-24T02:18:55Z</dcterms:modified>
  <cp:revision>40</cp:revision>
  <dc:subject/>
  <dc:title>Название презентации</dc:title>
</cp:coreProperties>
</file>